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A34-5EEC-4F77-9BF3-F32B2BCA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1E7-7A9C-4A56-A9D4-3A5E376F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614-AF3D-4E82-A965-6A7C7C0B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2FA-F990-4BED-B9FB-3351A404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EC6-89A9-43EA-99A2-D90F8656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ED2-2E0A-4164-973C-F8BF5DAC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999-843E-4A5C-B31A-66B8938E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6CE-1338-4183-BBC7-0C969C73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C13-412C-4BC7-8EF0-3F0544FB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DC9-E867-436F-8B4F-F3C6BEAA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894-7CB0-4B24-938A-CA0AD70D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A50-351F-4388-A4E5-127F3D4C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A400-07CB-4A93-8574-351EFBC9B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8 Pane, ráč nás Duch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ráč nás Duchom sv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hojnej miere obdar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me stále priprav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u pravdu obháj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úšky znášať trpezli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náš, pomôž sám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zhovievaví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ech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m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blížny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žní, ako ty si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brotivosť sprevádzať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é naše správ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vládnuť nás nauč váš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ušeniam vravieť: Ni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lody Ducha tvojho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nášať nám pomá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ti chceme verne slú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iere nás zachova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1:19:57Z</dcterms:modified>
  <cp:revision>19</cp:revision>
  <dc:subject/>
  <dc:title>Je veľký náš Pán, on slávy je Kráľ Nech do všetkých strán  spev vrúcnych znie chvál.</dc:title>
</cp:coreProperties>
</file>